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EFD3-EF9F-48BD-B84F-D6E85A0CA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EA6F-EBD8-4616-B354-E9EE28B5BE4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9ECA-AE7A-4606-ACB5-1A05D00851B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1E1B-1A50-4E71-942F-1D74A4CDAAA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2407-028A-4A9F-87EE-9FA28D0F0CF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D25E-A36B-424A-AFBD-AA0B1A421F8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967-BAE9-40E3-A92D-1B78E818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AE0-6834-423F-8474-CDF4E564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BD7-E013-44D0-9AA8-0B750DF7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534-0FB8-44E2-A9CB-8EDD7786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55BA-39F9-4B2D-8C30-65713EBA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ABF7-FB88-43D7-BBE9-C05CFFB3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03D5-164D-426D-951A-AB3026F1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FE0D-80BA-4969-A2F3-E156061C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216D-9E8B-4EDF-813E-5333F522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9ED8-7CDF-4F5F-AFA6-FC6E42B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D149-E3DA-40A3-9DE9-839D29C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3B2-13CD-4A81-BDFE-0C1C7A89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253B-1556-4CDD-8A66-7BEA4AA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523A-1856-4689-A9E4-7D992AED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0EF4-B263-4066-85B8-30D3F136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8436-009A-4553-BE0C-B4DBC84C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6BD2-A4B8-4435-BC0A-CA6A5F60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FF9-E669-4A4D-B202-8118C19C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2BC-2A45-47C2-9E71-CD2C13EF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115-BE61-4D95-91AC-66AEF9CF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51B-51E9-42F1-A985-4676505F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9B2-35F8-4AC3-B7B3-F343131C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C9F-63AC-4BC5-80E7-5811C0AD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EDC-D9CA-4D76-A5AF-935BA0C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466C-3FF0-4174-BF22-AE4F707DD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8844-548F-4E10-BB3C-6F1F40594DC0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icture Books, Conversations, and Embedded Strategy Instruction for Predict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-o-gram: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row Boy by Tara Yashim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aro Yashima use each vocabulary word? forlorn, interesting, trudging, imagine, graduation, attendance, admired, announced, charcoal, reject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3581280"/>
          <a:ext cx="7086600" cy="256068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Where the story took plac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in the story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roblem or goal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th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ain character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lution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o the problem or </a:t>
                      </a: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ttainment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goal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ticipation Guide: </a:t>
            </a:r>
            <a:br>
              <a:rPr sz="44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uck Everlasting by Natalie Babbit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major themes – write several statements – students discuss &amp; react before reading and then revisit af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3510000"/>
          <a:ext cx="7543800" cy="2662200"/>
        </p:xfrm>
        <a:graphic>
          <a:graphicData uri="http://schemas.openxmlformats.org/drawingml/2006/table">
            <a:tbl>
              <a:tblPr/>
              <a:tblGrid>
                <a:gridCol w="914400"/>
                <a:gridCol w="1218960"/>
                <a:gridCol w="5410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t would be wonderful to live forever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should never do something that your parents have forbidden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should have the right to sell products even if they are harmful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me secrets are so important that it is acceptable to do anything in order to keep them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ultivating Conversations (Chapter 3)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caffold discuss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ap student’s understanding of text and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ek clarification with examples &amp; detail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vite particip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rchestrate discussi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React and build off one another’s ideas, rather then just “question and answer quizzes” from the teacher.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Booktalk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may spark this opportunity.</a:t>
            </a: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Literature circle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/ </a:t>
            </a: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Textbook circle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may provide space for discussions about strategy use (e.g., predict, read, and discuss while applying strategies).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esigning Lessons For Students to Apply 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00"/>
                </a:solidFill>
                <a:latin typeface="Arial"/>
              </a:rPr>
              <a:t>The Seal Woman    OR    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330000"/>
                </a:solidFill>
                <a:latin typeface="Arial"/>
              </a:rPr>
              <a:t>The Frog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Read the story once for meaning.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Read again for stopping points and mark.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Anticipation Guide: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Think of the important message and compose one sentence for students to agree/disagree with at beginning and end.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Create three “Read &amp; Think” prompts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at important stopping points that require thinking/predicting about the main issues/problem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Exchange with your partner to complete.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Understand the components of predicting as a reading strategy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Explore different activities for encouraging students to “notice” when and how to “apply” a strategy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Try your hand at designing two mini-activities that facilitate predicting using a short text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ursday Oct. 1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– meet in librar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uesday Oct. 6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Groups): see wikispace for link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earse (1992) Fairy tale connections in Children’s Storie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inderella Around the World Telecollaborative Project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ook Activity #2 - part in class and part for homework - see handou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ursday, Oct. 8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rategy Book: Making Connections; Block &amp; Israel Article -- Book Activity #2 du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uesday, Oct. 13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yllabus Readings and Book Activity #3: Strategy Script du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roups for Cinderella Cla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1: Andrew, Sandy, Christin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2: Christina, Felicia, Kaela, Margaux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3: Steven, Molly, Samanth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4: Tessa, Lindsay, Rachel, Megan V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5: Meagan M., Karine, Angel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6: Brandon, Katie, Allyss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Understand the components of predicting as a reading strategy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Explore different activities for encouraging students to “notice” when and how to “apply” a strategy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Try your hand at designing two mini-activities that facilitate predicting using a short text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 Strategy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? (name it and define it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important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do you use the strategy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useful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remember Explain &amp; Define; Notice and Apply from your textbook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Why do good readers predict?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gives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build internal tens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anticipate a satisfying en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onnec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prior knowledge &amp; new inform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dictions serve as guidepost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e monitor our predictions from time to time to see how they hold up (That’s what I thought! -- Wow, that’s not what I thought!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edicting vs. Inferr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 reasoned assumption about meaning not directly stated in the 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lot-filling inferenc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dds background knowledge to a text - fill in the slo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ar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a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a littl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amb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leece was white as snow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Text-connecting inferenc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onnect two pieces of information in the text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ry had a lamb for her entrée. It was once whit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prediction is one type of inference, but there are many others.  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oblems with 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’s predictions are often inaccurate, because of the text or the read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 underestimate the importance of text features in informational tex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ny children don’t take the time to predict properly and never revisit to solidify or revise their prediction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r Teaching Goal: Help students make predictions that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ccurat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eaningfu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efine… Explain…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Notice… Appl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efine and Expl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is a prediction different than a guess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od, so what I hear you saying is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let go a little to facilitate students monitoring their strategy use)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ook at the tally sheet - Once you predict, you’re going to think about what you used to make that prediction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e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do we predic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e the Predicting Tally Sheet (p. 204) but be careful about being too prescriptive!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Title, headings, cover, pictures, ca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Ask ques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Knowledge of the topic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Knowledge about the author/genre/book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Text organization &amp; structu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6. Past events in the tex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7. Meaningful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8. Knowledge of the charact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212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000"/>
                </a:solidFill>
                <a:latin typeface="Arial"/>
              </a:rPr>
              <a:t>Now, notice and apply with </a:t>
            </a:r>
            <a:r>
              <a:rPr b="1" i="1" lang="en-US" sz="2400" spc="-1" strike="noStrike">
                <a:solidFill>
                  <a:srgbClr val="320000"/>
                </a:solidFill>
                <a:latin typeface="Arial"/>
              </a:rPr>
              <a:t>Once There Was a Bull.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tice &amp; Apply (Activities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Title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Anticipation Guide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 (see next slide)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Topic/Vocab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Predict-o-gram 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(see next slide)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Sticky Note Questions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Preview, Read, Question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Directed Reading/Thinking Activity: 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Make a prediction, read to find out, &amp; verify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Author/Genre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Story map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; genre features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Predict what you’d find in types of expository texts: ABC books, magazines, newspapers, ads, brochures, invitations, menus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1:26:21Z</dcterms:created>
  <dc:creator>Julie Coiro</dc:creator>
  <dc:description/>
  <dc:language>en-US</dc:language>
  <cp:lastModifiedBy>Julie Coiro</cp:lastModifiedBy>
  <dcterms:modified xsi:type="dcterms:W3CDTF">2009-09-29T02:30:21Z</dcterms:modified>
  <cp:revision>153</cp:revision>
  <dc:subject/>
  <dc:title>Metacognitive Strategy Instruction to Enhance Reading Comprehension</dc:title>
</cp:coreProperties>
</file>